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EDF-6D3D-4901-B813-9B887AAD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C61-539E-49B2-92F6-95ABC49A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60A-3417-4440-8697-89FF9BB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663-5929-4D05-9DCC-2639BE83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E4B7-9F99-4C0A-B81B-4EDA3187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5C7C-1947-4042-8EFE-176DB7B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C5C5-CEF8-4C73-B8ED-18AE60CD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CD7-B167-4AA2-B596-E0939B57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43CD-51DA-4528-A86E-3B24985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98C8-F59C-46E9-87D4-68371001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F5EC-AC41-40F8-95B0-7D336713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DE0-3B5E-446E-92D0-5418A698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BA7-B8DD-4986-AE24-651DE94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C575-0033-4556-A78B-9527B74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9AA6-EBCD-4170-9C77-F823762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763-E29E-44AA-BD9A-5F267EE9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10DC-789F-442F-B78D-3B76FCAB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9E2-7CDB-48C6-92C6-78076700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BC8-06A9-4777-BF01-8B1616BF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24A-A8F2-4C5F-9B03-A81CCF9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C0B-CC48-4964-97B2-41D7191B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8F8-D85D-4ED5-8941-57F5FC3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0E2-A764-4D82-B8AC-C76BC34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839-4177-476A-AE02-7394EC1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E9E-37E8-445D-A040-CFD5828EAA0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65DD-C65C-4258-9887-A81B103C332E}" type="slidenum"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ahoma"/>
              </a:rPr>
              <a:t>Drogas depressoras do SNC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Regina Ju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Efeitos%20do%20alcool%2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165240"/>
            <a:ext cx="7467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Drogas depressoras do SN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Álcool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Narcótico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Sedativos e tranqüilizant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alantes, Solventes ou Voláte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Álco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“</a:t>
            </a:r>
            <a:r>
              <a:rPr b="0" i="1" lang="en-US" sz="4800" spc="-1" strike="noStrike">
                <a:solidFill>
                  <a:srgbClr val="ff33cc"/>
                </a:solidFill>
                <a:latin typeface="Arial"/>
                <a:ea typeface="Arial"/>
              </a:rPr>
              <a:t>Alcoolismo é a perda da liberdade de beber.”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Ele afeta o funcionamento dos rins, fígado, coração e cérebro, provocando lesões significantes. Um dos maiores problemas do álcool é o uso por gestantes. A mulher alcoólatra, mesmo que pare de beber na gravidez, se tiver feito uso do álcool três meses antes da fertilização do óvulo, poderá comprometer a inteligência, o desenvolvimento motor, o peso e até provocar má formações genéticas no f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racteriza-se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ls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da de cont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ência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lerâ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coolism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Num primeiro momento, em quantidades reduzidas, o álcool inibe a censura interna, derrubando o autocontrole e a autocrítica. É a fase em que o bebedor fica “alegrinho” e fa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Inseguros, tímidos, angustiados ou ansiosos para entrar na vida adulta, os jovens descobrem logo que uma latinha de cerveja</a:t>
            </a: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é uma boa ajuda para convidar aquela garota para dançar ou “ficar” com um carinha cobiçado numa fe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Muitos jovens ingerem álcool para ter coragem de entrar no mundo adul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idado!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7240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certe%20a%20medida..." descr=""/>
          <p:cNvPicPr/>
          <p:nvPr/>
        </p:nvPicPr>
        <p:blipFill>
          <a:blip r:embed="rId2"/>
          <a:srcRect l="0" t="11112" r="2059" b="0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  <a:ea typeface="Arial"/>
              </a:rPr>
              <a:t>Ainda que seja contravenção penal fornecer álcool a menores de idade, inclusive dentro de casa, pode parecer até absurdo recriminar um pai que serve uma cervejinha a seu filho de 16, 17 a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  <a:ea typeface="Arial"/>
              </a:rPr>
              <a:t>Em boa parte das famílias, esse hábito está incorporado à cultura nacional - e mesmo em países onde a lei é cumprida ao pé da letra, como nos Estados Unidos, a garotada enche a cara em festas particula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Como o consumo adolescente é socialmente aceito, fica difícil saber quando um jovem está bebendo além da co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A preocupação só aparece quando se vêem as conseqüênci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Na versão inofensiva, uma bebedeira homérica é apenas uma história divertida. O problema é que muitas vezes um único excesso pode acabar em graves acidentes de carro, em relações sexuais sem preservativo e em todos esses pesadelos que costumam acometer a maioria dos pais nas noites de sáb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15:31:15Z</dcterms:created>
  <dc:creator>Carlos &amp; Regina</dc:creator>
  <dc:description/>
  <dc:language>en-US</dc:language>
  <cp:lastModifiedBy>LEO</cp:lastModifiedBy>
  <dcterms:modified xsi:type="dcterms:W3CDTF">2000-09-07T12:44:52Z</dcterms:modified>
  <cp:revision>8</cp:revision>
  <dc:subject/>
  <dc:title>Drogas depressoras do SNC</dc:title>
</cp:coreProperties>
</file>